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FD40-E2A4-4844-991E-9159161A07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definition is adapted from the Introduction section of “Graphical Models: Foundations of Neural Computation” edited by Jordan and Sejnowski (MIT Press 200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DA3-5370-4EFF-BC50-CB153BA8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FA35-04A0-42F5-AD09-067D8B19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C8BD-F118-4D70-A508-992EEA92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1467-4083-491A-B803-5C30F6A8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5601-C42B-41D9-BFB3-64F233D3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D53C-69B1-4AD9-BB05-2C6D52F0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029B-3DDF-4F15-8BA6-B23C6F0C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7F0B-2244-470F-A2E6-BBB5119F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2EFB-8811-4DD4-BE15-3A3C0988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5962-FA3A-45A6-B3A6-945F6A39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E8EF-1B50-4C47-B61D-FE9E5E82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17FF-C3C6-47D2-9739-86DAC886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C43A-6865-401A-87AF-AE445957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6EC3-9E31-4907-A4B8-E838DA9B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295C-09FC-46A6-A726-52CCF0A5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F3B5-FCE8-48F0-BF9F-340125FA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A59E-AD5E-41CC-BEF1-9EF56E89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2543-851A-42A4-AAE1-B7659CD2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F981-9E4A-4A0D-920B-78D88429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90E0-8C45-473C-A5A0-FB525356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E29F-5FBD-4985-8982-B2E49FC6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73C0-3E29-4E69-B210-CA3A35B5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45EE-60F4-4270-9C78-078207B4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6DA-ABB1-4414-95EF-E01B7915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E44D-4B07-4AD5-A742-D1AEA01DE20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A012-877E-4BD2-93F3-AE4553ED8A1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hyperlink" Target="mailto:hilaryb@sussex.ac.uk" TargetMode="External"/><Relationship Id="rId3" Type="http://schemas.openxmlformats.org/officeDocument/2006/relationships/hyperlink" Target="http://www.ecvision.org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lary Bux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ilaryb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pared under ECVision Specific Action 8-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ecvisi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xture model as a graphical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shrub0" descr=""/>
          <p:cNvPicPr/>
          <p:nvPr/>
        </p:nvPicPr>
        <p:blipFill>
          <a:blip r:embed="rId1"/>
          <a:stretch/>
        </p:blipFill>
        <p:spPr>
          <a:xfrm>
            <a:off x="868320" y="2697120"/>
            <a:ext cx="3505320" cy="32860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19360" y="245412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-651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How is this a generative model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141120" indent="-540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From lecture 2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41120" indent="-540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Estimate P(X) somehow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41120" indent="-540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Calculate P(X,Y) using the training data (the set of pixels in our image) using P(X,Y) = P(Y|X). P(X) from the graphical mod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41120" indent="-540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P(Y|X)  is the previous slide – we didn’t say how we learned i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41120" indent="-540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Calculate P(X|Y) using Bayes Rule. This would assign each pixel to a class based on its grey level (classifier mode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65160" indent="-651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To use generatively, use P(X) and sample P(X,Y) although this would produce a set of pixels without any spatial structure!!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5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actor analysis as graphical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9640" y="2417760"/>
            <a:ext cx="795348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 fact, this example of a mixture model where the underlying variable X is continuous (e.g. a Gaussian or normal distribution) is actually </a:t>
            </a:r>
            <a:r>
              <a:rPr b="1" lang="en-GB" sz="2800" spc="-1" strike="noStrike" u="sng">
                <a:solidFill>
                  <a:srgbClr val="003366"/>
                </a:solidFill>
                <a:uFillTx/>
                <a:latin typeface="Arial"/>
              </a:rPr>
              <a:t>factor analy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219320" y="4648320"/>
            <a:ext cx="7026120" cy="1717560"/>
            <a:chOff x="1219320" y="4648320"/>
            <a:chExt cx="7026120" cy="1717560"/>
          </a:xfrm>
        </p:grpSpPr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1235160" y="4648320"/>
                  <a:ext cx="3809880" cy="60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1235160" y="5181840"/>
                  <a:ext cx="701028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y</m:t>
                      </m:r>
                      <m:r>
                        <m:t xml:space="preserve">|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;</m:t>
                      </m:r>
                      <m:r>
                        <m:t xml:space="preserve">μ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Wx</m:t>
                      </m:r>
                      <m:r>
                        <m:t xml:space="preserve">,</m:t>
                      </m:r>
                      <m:r>
                        <m:t xml:space="preserve">ψ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1219320" y="5697720"/>
                  <a:ext cx="4343400" cy="66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∈</m:t>
                      </m:r>
                      <m:sSup>
                        <m:e>
                          <m:r>
                            <m:t xml:space="preserve">ℜ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∈</m:t>
                      </m:r>
                      <m:sSup>
                        <m:e>
                          <m:r>
                            <m:t xml:space="preserve">ℜ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rPr>
                          <m:lit/>
                          <m:nor/>
                        </m:rPr>
                        <m:t xml:space="preserve">&lt;&lt;</m:t>
                      </m:r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actor analysis as graphical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360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28600" y="2438280"/>
            <a:ext cx="8915400" cy="2898000"/>
            <a:chOff x="228600" y="2438280"/>
            <a:chExt cx="8915400" cy="2898000"/>
          </a:xfrm>
        </p:grpSpPr>
        <p:grpSp>
          <p:nvGrpSpPr>
            <p:cNvPr id="159" name=""/>
            <p:cNvGrpSpPr/>
            <p:nvPr/>
          </p:nvGrpSpPr>
          <p:grpSpPr>
            <a:xfrm>
              <a:off x="4862520" y="2438280"/>
              <a:ext cx="4281480" cy="2898000"/>
              <a:chOff x="4862520" y="2438280"/>
              <a:chExt cx="4281480" cy="2898000"/>
            </a:xfrm>
          </p:grpSpPr>
          <p:sp>
            <p:nvSpPr>
              <p:cNvPr id="160" name=""/>
              <p:cNvSpPr/>
              <p:nvPr/>
            </p:nvSpPr>
            <p:spPr>
              <a:xfrm>
                <a:off x="5321520" y="2438280"/>
                <a:ext cx="0" cy="2438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321520" y="4876560"/>
                <a:ext cx="35812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150320" y="3047760"/>
                <a:ext cx="1993680" cy="1625760"/>
              </a:xfrm>
              <a:custGeom>
                <a:avLst/>
                <a:gdLst/>
                <a:ahLst/>
                <a:rect l="l" t="t" r="r" b="b"/>
                <a:pathLst>
                  <a:path w="1256" h="1024">
                    <a:moveTo>
                      <a:pt x="0" y="1024"/>
                    </a:moveTo>
                    <a:cubicBezTo>
                      <a:pt x="104" y="1012"/>
                      <a:pt x="208" y="1000"/>
                      <a:pt x="288" y="928"/>
                    </a:cubicBezTo>
                    <a:cubicBezTo>
                      <a:pt x="368" y="856"/>
                      <a:pt x="432" y="720"/>
                      <a:pt x="480" y="592"/>
                    </a:cubicBezTo>
                    <a:cubicBezTo>
                      <a:pt x="528" y="464"/>
                      <a:pt x="544" y="256"/>
                      <a:pt x="576" y="160"/>
                    </a:cubicBezTo>
                    <a:cubicBezTo>
                      <a:pt x="608" y="64"/>
                      <a:pt x="632" y="32"/>
                      <a:pt x="672" y="16"/>
                    </a:cubicBezTo>
                    <a:cubicBezTo>
                      <a:pt x="712" y="0"/>
                      <a:pt x="784" y="16"/>
                      <a:pt x="816" y="64"/>
                    </a:cubicBezTo>
                    <a:cubicBezTo>
                      <a:pt x="848" y="112"/>
                      <a:pt x="848" y="200"/>
                      <a:pt x="864" y="304"/>
                    </a:cubicBezTo>
                    <a:cubicBezTo>
                      <a:pt x="880" y="408"/>
                      <a:pt x="888" y="584"/>
                      <a:pt x="912" y="688"/>
                    </a:cubicBezTo>
                    <a:cubicBezTo>
                      <a:pt x="936" y="792"/>
                      <a:pt x="952" y="872"/>
                      <a:pt x="1008" y="928"/>
                    </a:cubicBezTo>
                    <a:cubicBezTo>
                      <a:pt x="1064" y="984"/>
                      <a:pt x="1256" y="1000"/>
                      <a:pt x="1248" y="102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64520" y="3276360"/>
                <a:ext cx="1993680" cy="1397160"/>
              </a:xfrm>
              <a:custGeom>
                <a:avLst/>
                <a:gdLst/>
                <a:ahLst/>
                <a:rect l="l" t="t" r="r" b="b"/>
                <a:pathLst>
                  <a:path w="1256" h="1024">
                    <a:moveTo>
                      <a:pt x="0" y="1024"/>
                    </a:moveTo>
                    <a:cubicBezTo>
                      <a:pt x="104" y="1012"/>
                      <a:pt x="208" y="1000"/>
                      <a:pt x="288" y="928"/>
                    </a:cubicBezTo>
                    <a:cubicBezTo>
                      <a:pt x="368" y="856"/>
                      <a:pt x="432" y="720"/>
                      <a:pt x="480" y="592"/>
                    </a:cubicBezTo>
                    <a:cubicBezTo>
                      <a:pt x="528" y="464"/>
                      <a:pt x="544" y="256"/>
                      <a:pt x="576" y="160"/>
                    </a:cubicBezTo>
                    <a:cubicBezTo>
                      <a:pt x="608" y="64"/>
                      <a:pt x="632" y="32"/>
                      <a:pt x="672" y="16"/>
                    </a:cubicBezTo>
                    <a:cubicBezTo>
                      <a:pt x="712" y="0"/>
                      <a:pt x="784" y="16"/>
                      <a:pt x="816" y="64"/>
                    </a:cubicBezTo>
                    <a:cubicBezTo>
                      <a:pt x="848" y="112"/>
                      <a:pt x="848" y="200"/>
                      <a:pt x="864" y="304"/>
                    </a:cubicBezTo>
                    <a:cubicBezTo>
                      <a:pt x="880" y="408"/>
                      <a:pt x="888" y="584"/>
                      <a:pt x="912" y="688"/>
                    </a:cubicBezTo>
                    <a:cubicBezTo>
                      <a:pt x="936" y="792"/>
                      <a:pt x="952" y="872"/>
                      <a:pt x="1008" y="928"/>
                    </a:cubicBezTo>
                    <a:cubicBezTo>
                      <a:pt x="1064" y="984"/>
                      <a:pt x="1256" y="1000"/>
                      <a:pt x="1248" y="1024"/>
                    </a:cubicBezTo>
                  </a:path>
                </a:pathLst>
              </a:custGeom>
              <a:noFill/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778720" y="2895480"/>
                <a:ext cx="1993680" cy="1778040"/>
              </a:xfrm>
              <a:custGeom>
                <a:avLst/>
                <a:gdLst/>
                <a:ahLst/>
                <a:rect l="l" t="t" r="r" b="b"/>
                <a:pathLst>
                  <a:path w="1256" h="1024">
                    <a:moveTo>
                      <a:pt x="0" y="1024"/>
                    </a:moveTo>
                    <a:cubicBezTo>
                      <a:pt x="104" y="1012"/>
                      <a:pt x="208" y="1000"/>
                      <a:pt x="288" y="928"/>
                    </a:cubicBezTo>
                    <a:cubicBezTo>
                      <a:pt x="368" y="856"/>
                      <a:pt x="432" y="720"/>
                      <a:pt x="480" y="592"/>
                    </a:cubicBezTo>
                    <a:cubicBezTo>
                      <a:pt x="528" y="464"/>
                      <a:pt x="544" y="256"/>
                      <a:pt x="576" y="160"/>
                    </a:cubicBezTo>
                    <a:cubicBezTo>
                      <a:pt x="608" y="64"/>
                      <a:pt x="632" y="32"/>
                      <a:pt x="672" y="16"/>
                    </a:cubicBezTo>
                    <a:cubicBezTo>
                      <a:pt x="712" y="0"/>
                      <a:pt x="784" y="16"/>
                      <a:pt x="816" y="64"/>
                    </a:cubicBezTo>
                    <a:cubicBezTo>
                      <a:pt x="848" y="112"/>
                      <a:pt x="848" y="200"/>
                      <a:pt x="864" y="304"/>
                    </a:cubicBezTo>
                    <a:cubicBezTo>
                      <a:pt x="880" y="408"/>
                      <a:pt x="888" y="584"/>
                      <a:pt x="912" y="688"/>
                    </a:cubicBezTo>
                    <a:cubicBezTo>
                      <a:pt x="936" y="792"/>
                      <a:pt x="952" y="872"/>
                      <a:pt x="1008" y="928"/>
                    </a:cubicBezTo>
                    <a:cubicBezTo>
                      <a:pt x="1064" y="984"/>
                      <a:pt x="1256" y="1000"/>
                      <a:pt x="1248" y="1024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397480" y="3047760"/>
                <a:ext cx="1155960" cy="1676520"/>
              </a:xfrm>
              <a:custGeom>
                <a:avLst/>
                <a:gdLst/>
                <a:ahLst/>
                <a:rect l="l" t="t" r="r" b="b"/>
                <a:pathLst>
                  <a:path w="1256" h="1024">
                    <a:moveTo>
                      <a:pt x="0" y="1024"/>
                    </a:moveTo>
                    <a:cubicBezTo>
                      <a:pt x="104" y="1012"/>
                      <a:pt x="208" y="1000"/>
                      <a:pt x="288" y="928"/>
                    </a:cubicBezTo>
                    <a:cubicBezTo>
                      <a:pt x="368" y="856"/>
                      <a:pt x="432" y="720"/>
                      <a:pt x="480" y="592"/>
                    </a:cubicBezTo>
                    <a:cubicBezTo>
                      <a:pt x="528" y="464"/>
                      <a:pt x="544" y="256"/>
                      <a:pt x="576" y="160"/>
                    </a:cubicBezTo>
                    <a:cubicBezTo>
                      <a:pt x="608" y="64"/>
                      <a:pt x="632" y="32"/>
                      <a:pt x="672" y="16"/>
                    </a:cubicBezTo>
                    <a:cubicBezTo>
                      <a:pt x="712" y="0"/>
                      <a:pt x="784" y="16"/>
                      <a:pt x="816" y="64"/>
                    </a:cubicBezTo>
                    <a:cubicBezTo>
                      <a:pt x="848" y="112"/>
                      <a:pt x="848" y="200"/>
                      <a:pt x="864" y="304"/>
                    </a:cubicBezTo>
                    <a:cubicBezTo>
                      <a:pt x="880" y="408"/>
                      <a:pt x="888" y="584"/>
                      <a:pt x="912" y="688"/>
                    </a:cubicBezTo>
                    <a:cubicBezTo>
                      <a:pt x="936" y="792"/>
                      <a:pt x="952" y="872"/>
                      <a:pt x="1008" y="928"/>
                    </a:cubicBezTo>
                    <a:cubicBezTo>
                      <a:pt x="1064" y="984"/>
                      <a:pt x="1256" y="1000"/>
                      <a:pt x="1248" y="1024"/>
                    </a:cubicBezTo>
                  </a:path>
                </a:pathLst>
              </a:cu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321520" y="3962160"/>
                <a:ext cx="622080" cy="838080"/>
              </a:xfrm>
              <a:custGeom>
                <a:avLst/>
                <a:gdLst/>
                <a:ahLst/>
                <a:rect l="l" t="t" r="r" b="b"/>
                <a:pathLst>
                  <a:path w="1256" h="1024">
                    <a:moveTo>
                      <a:pt x="0" y="1024"/>
                    </a:moveTo>
                    <a:cubicBezTo>
                      <a:pt x="104" y="1012"/>
                      <a:pt x="208" y="1000"/>
                      <a:pt x="288" y="928"/>
                    </a:cubicBezTo>
                    <a:cubicBezTo>
                      <a:pt x="368" y="856"/>
                      <a:pt x="432" y="720"/>
                      <a:pt x="480" y="592"/>
                    </a:cubicBezTo>
                    <a:cubicBezTo>
                      <a:pt x="528" y="464"/>
                      <a:pt x="544" y="256"/>
                      <a:pt x="576" y="160"/>
                    </a:cubicBezTo>
                    <a:cubicBezTo>
                      <a:pt x="608" y="64"/>
                      <a:pt x="632" y="32"/>
                      <a:pt x="672" y="16"/>
                    </a:cubicBezTo>
                    <a:cubicBezTo>
                      <a:pt x="712" y="0"/>
                      <a:pt x="784" y="16"/>
                      <a:pt x="816" y="64"/>
                    </a:cubicBezTo>
                    <a:cubicBezTo>
                      <a:pt x="848" y="112"/>
                      <a:pt x="848" y="200"/>
                      <a:pt x="864" y="304"/>
                    </a:cubicBezTo>
                    <a:cubicBezTo>
                      <a:pt x="880" y="408"/>
                      <a:pt x="888" y="584"/>
                      <a:pt x="912" y="688"/>
                    </a:cubicBezTo>
                    <a:cubicBezTo>
                      <a:pt x="936" y="792"/>
                      <a:pt x="952" y="872"/>
                      <a:pt x="1008" y="928"/>
                    </a:cubicBezTo>
                    <a:cubicBezTo>
                      <a:pt x="1064" y="984"/>
                      <a:pt x="1256" y="1000"/>
                      <a:pt x="1248" y="102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999480" y="4876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31160" y="4841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431200" y="487656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255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6200000">
                <a:off x="4640760" y="3055680"/>
                <a:ext cx="90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p(y|x)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228600" y="2438280"/>
              <a:ext cx="4892400" cy="2898000"/>
              <a:chOff x="228600" y="2438280"/>
              <a:chExt cx="4892400" cy="2898000"/>
            </a:xfrm>
          </p:grpSpPr>
          <p:sp>
            <p:nvSpPr>
              <p:cNvPr id="172" name=""/>
              <p:cNvSpPr/>
              <p:nvPr/>
            </p:nvSpPr>
            <p:spPr>
              <a:xfrm>
                <a:off x="1373040" y="2438280"/>
                <a:ext cx="0" cy="2438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373040" y="4876560"/>
                <a:ext cx="3581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8600" y="3124080"/>
                <a:ext cx="1994040" cy="1625400"/>
              </a:xfrm>
              <a:custGeom>
                <a:avLst/>
                <a:gdLst/>
                <a:ahLst/>
                <a:rect l="l" t="t" r="r" b="b"/>
                <a:pathLst>
                  <a:path w="1256" h="1024">
                    <a:moveTo>
                      <a:pt x="0" y="1024"/>
                    </a:moveTo>
                    <a:cubicBezTo>
                      <a:pt x="104" y="1012"/>
                      <a:pt x="208" y="1000"/>
                      <a:pt x="288" y="928"/>
                    </a:cubicBezTo>
                    <a:cubicBezTo>
                      <a:pt x="368" y="856"/>
                      <a:pt x="432" y="720"/>
                      <a:pt x="480" y="592"/>
                    </a:cubicBezTo>
                    <a:cubicBezTo>
                      <a:pt x="528" y="464"/>
                      <a:pt x="544" y="256"/>
                      <a:pt x="576" y="160"/>
                    </a:cubicBezTo>
                    <a:cubicBezTo>
                      <a:pt x="608" y="64"/>
                      <a:pt x="632" y="32"/>
                      <a:pt x="672" y="16"/>
                    </a:cubicBezTo>
                    <a:cubicBezTo>
                      <a:pt x="712" y="0"/>
                      <a:pt x="784" y="16"/>
                      <a:pt x="816" y="64"/>
                    </a:cubicBezTo>
                    <a:cubicBezTo>
                      <a:pt x="848" y="112"/>
                      <a:pt x="848" y="200"/>
                      <a:pt x="864" y="304"/>
                    </a:cubicBezTo>
                    <a:cubicBezTo>
                      <a:pt x="880" y="408"/>
                      <a:pt x="888" y="584"/>
                      <a:pt x="912" y="688"/>
                    </a:cubicBezTo>
                    <a:cubicBezTo>
                      <a:pt x="936" y="792"/>
                      <a:pt x="952" y="872"/>
                      <a:pt x="1008" y="928"/>
                    </a:cubicBezTo>
                    <a:cubicBezTo>
                      <a:pt x="1064" y="984"/>
                      <a:pt x="1256" y="1000"/>
                      <a:pt x="1248" y="102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283040" y="4841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483080" y="487656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255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666880" y="3124080"/>
                <a:ext cx="1994040" cy="1625400"/>
              </a:xfrm>
              <a:custGeom>
                <a:avLst/>
                <a:gdLst/>
                <a:ahLst/>
                <a:rect l="l" t="t" r="r" b="b"/>
                <a:pathLst>
                  <a:path w="1256" h="1024">
                    <a:moveTo>
                      <a:pt x="0" y="1024"/>
                    </a:moveTo>
                    <a:cubicBezTo>
                      <a:pt x="104" y="1012"/>
                      <a:pt x="208" y="1000"/>
                      <a:pt x="288" y="928"/>
                    </a:cubicBezTo>
                    <a:cubicBezTo>
                      <a:pt x="368" y="856"/>
                      <a:pt x="432" y="720"/>
                      <a:pt x="480" y="592"/>
                    </a:cubicBezTo>
                    <a:cubicBezTo>
                      <a:pt x="528" y="464"/>
                      <a:pt x="544" y="256"/>
                      <a:pt x="576" y="160"/>
                    </a:cubicBezTo>
                    <a:cubicBezTo>
                      <a:pt x="608" y="64"/>
                      <a:pt x="632" y="32"/>
                      <a:pt x="672" y="16"/>
                    </a:cubicBezTo>
                    <a:cubicBezTo>
                      <a:pt x="712" y="0"/>
                      <a:pt x="784" y="16"/>
                      <a:pt x="816" y="64"/>
                    </a:cubicBezTo>
                    <a:cubicBezTo>
                      <a:pt x="848" y="112"/>
                      <a:pt x="848" y="200"/>
                      <a:pt x="864" y="304"/>
                    </a:cubicBezTo>
                    <a:cubicBezTo>
                      <a:pt x="880" y="408"/>
                      <a:pt x="888" y="584"/>
                      <a:pt x="912" y="688"/>
                    </a:cubicBezTo>
                    <a:cubicBezTo>
                      <a:pt x="936" y="792"/>
                      <a:pt x="952" y="872"/>
                      <a:pt x="1008" y="928"/>
                    </a:cubicBezTo>
                    <a:cubicBezTo>
                      <a:pt x="1064" y="984"/>
                      <a:pt x="1256" y="1000"/>
                      <a:pt x="1248" y="102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809880" y="2819160"/>
                <a:ext cx="0" cy="2057400"/>
              </a:xfrm>
              <a:prstGeom prst="line">
                <a:avLst/>
              </a:prstGeom>
              <a:ln w="936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371600" y="3047760"/>
                <a:ext cx="24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440440" y="2666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w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"/>
          <p:cNvSpPr/>
          <p:nvPr/>
        </p:nvSpPr>
        <p:spPr>
          <a:xfrm>
            <a:off x="930240" y="5354640"/>
            <a:ext cx="795348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ctor analysis represents a high-dimensional vector Y as a linear combination of low dimensional features 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te space mode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9640" y="241776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tate space models “roll out” their structure over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graphical model shows which variable sets dictate how the model parameters will change over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Hidden Markov Mod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ynamic Bayesian Networ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Kalman Filter Mod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oupled Hidden Markov Mod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idden Markov Mode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523880" y="5105520"/>
                <a:ext cx="64533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86" name=""/>
          <p:cNvGrpSpPr/>
          <p:nvPr/>
        </p:nvGrpSpPr>
        <p:grpSpPr>
          <a:xfrm>
            <a:off x="1371600" y="2576520"/>
            <a:ext cx="6477120" cy="2376360"/>
            <a:chOff x="1371600" y="2576520"/>
            <a:chExt cx="6477120" cy="2376360"/>
          </a:xfrm>
        </p:grpSpPr>
        <p:sp>
          <p:nvSpPr>
            <p:cNvPr id="187" name=""/>
            <p:cNvSpPr/>
            <p:nvPr/>
          </p:nvSpPr>
          <p:spPr>
            <a:xfrm>
              <a:off x="1371600" y="3962520"/>
              <a:ext cx="990720" cy="9903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Y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05120" y="3505320"/>
              <a:ext cx="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24080" y="3962520"/>
              <a:ext cx="990720" cy="9903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Y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2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57600" y="3505320"/>
              <a:ext cx="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76920" y="3962520"/>
              <a:ext cx="990360" cy="9903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Y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3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10080" y="3505320"/>
              <a:ext cx="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62320" y="304812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14800" y="30481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67280" y="3048120"/>
              <a:ext cx="76212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58000" y="3962520"/>
              <a:ext cx="990720" cy="9903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Y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T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1520" y="3505320"/>
              <a:ext cx="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47920" y="259092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70160" y="257652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52880" y="259092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0" y="259092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13160" y="2749680"/>
              <a:ext cx="60732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80040" y="2690640"/>
              <a:ext cx="60732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2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48360" y="2735280"/>
              <a:ext cx="60732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3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37280" y="2719440"/>
              <a:ext cx="62100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T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ynamic Bayesian Networ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5181480"/>
            <a:ext cx="8077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BNs have more than one (here up to N) underlying models X of behaviour and can switch from model to model with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311120" y="2592360"/>
            <a:ext cx="6477120" cy="2376360"/>
            <a:chOff x="1311120" y="2592360"/>
            <a:chExt cx="6477120" cy="2376360"/>
          </a:xfrm>
        </p:grpSpPr>
        <p:sp>
          <p:nvSpPr>
            <p:cNvPr id="209" name=""/>
            <p:cNvSpPr/>
            <p:nvPr/>
          </p:nvSpPr>
          <p:spPr>
            <a:xfrm>
              <a:off x="1311120" y="3978360"/>
              <a:ext cx="990720" cy="9903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Y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44640" y="3521160"/>
              <a:ext cx="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63960" y="3978360"/>
              <a:ext cx="990360" cy="9903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Y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2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97120" y="3521160"/>
              <a:ext cx="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16440" y="3978360"/>
              <a:ext cx="990720" cy="9903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Y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3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49960" y="3521160"/>
              <a:ext cx="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01840" y="3063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54320" y="3063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07160" y="3063960"/>
              <a:ext cx="76176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97520" y="3978360"/>
              <a:ext cx="990720" cy="9903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Y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T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31040" y="3521160"/>
              <a:ext cx="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87440" y="260676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10040" y="259236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2760" y="260676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97520" y="260676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88240" y="2781360"/>
              <a:ext cx="74592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1</a:t>
              </a:r>
              <a:r>
                <a:rPr b="1" lang="en-US" sz="3400" spc="-1" strike="noStrike" baseline="30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70960" y="2706840"/>
              <a:ext cx="74592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2</a:t>
              </a:r>
              <a:r>
                <a:rPr b="1" lang="en-US" sz="3400" spc="-1" strike="noStrike" baseline="30000">
                  <a:solidFill>
                    <a:srgbClr val="003366"/>
                  </a:solidFill>
                  <a:latin typeface="Arial"/>
                </a:rPr>
                <a:t>2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07600" y="2751120"/>
              <a:ext cx="74592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3</a:t>
              </a:r>
              <a:r>
                <a:rPr b="1" lang="en-US" sz="3400" spc="-1" strike="noStrike" baseline="30000">
                  <a:solidFill>
                    <a:srgbClr val="003366"/>
                  </a:solidFill>
                  <a:latin typeface="Arial"/>
                </a:rPr>
                <a:t>3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15960" y="2751120"/>
              <a:ext cx="80100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r>
                <a:rPr b="1" lang="en-US" sz="3400" spc="-1" strike="noStrike" baseline="-25000">
                  <a:solidFill>
                    <a:srgbClr val="003366"/>
                  </a:solidFill>
                  <a:latin typeface="Arial"/>
                </a:rPr>
                <a:t>T</a:t>
              </a:r>
              <a:r>
                <a:rPr b="1" lang="en-US" sz="3400" spc="-1" strike="noStrike" baseline="30000">
                  <a:solidFill>
                    <a:srgbClr val="003366"/>
                  </a:solidFill>
                  <a:latin typeface="Arial"/>
                </a:rPr>
                <a:t>N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witching Kalman Filter Mode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24280" y="3657600"/>
            <a:ext cx="31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ANSITION FUN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24640" y="4621320"/>
            <a:ext cx="34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BSERVATION FUN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555920" y="2666880"/>
            <a:ext cx="2939760" cy="2528640"/>
            <a:chOff x="1555920" y="2666880"/>
            <a:chExt cx="2939760" cy="2528640"/>
          </a:xfrm>
        </p:grpSpPr>
        <p:grpSp>
          <p:nvGrpSpPr>
            <p:cNvPr id="232" name=""/>
            <p:cNvGrpSpPr/>
            <p:nvPr/>
          </p:nvGrpSpPr>
          <p:grpSpPr>
            <a:xfrm>
              <a:off x="1828800" y="2666880"/>
              <a:ext cx="2666880" cy="2528640"/>
              <a:chOff x="1828800" y="2666880"/>
              <a:chExt cx="2666880" cy="2528640"/>
            </a:xfrm>
          </p:grpSpPr>
          <p:sp>
            <p:nvSpPr>
              <p:cNvPr id="233" name=""/>
              <p:cNvSpPr/>
              <p:nvPr/>
            </p:nvSpPr>
            <p:spPr>
              <a:xfrm>
                <a:off x="2514600" y="3900240"/>
                <a:ext cx="3049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505320" y="3900240"/>
                <a:ext cx="3045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1828800" y="2666880"/>
                <a:ext cx="2666880" cy="2528640"/>
                <a:chOff x="1828800" y="2666880"/>
                <a:chExt cx="2666880" cy="25286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828800" y="3519360"/>
                  <a:ext cx="685800" cy="685800"/>
                </a:xfrm>
                <a:prstGeom prst="ellipse">
                  <a:avLst/>
                </a:pr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809880" y="3519360"/>
                  <a:ext cx="685800" cy="685800"/>
                </a:xfrm>
                <a:prstGeom prst="ellipse">
                  <a:avLst/>
                </a:pr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819520" y="3519360"/>
                  <a:ext cx="685800" cy="685800"/>
                </a:xfrm>
                <a:prstGeom prst="ellipse">
                  <a:avLst/>
                </a:pr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239" name=""/>
                <p:cNvGrpSpPr/>
                <p:nvPr/>
              </p:nvGrpSpPr>
              <p:grpSpPr>
                <a:xfrm>
                  <a:off x="1828800" y="2666880"/>
                  <a:ext cx="2666880" cy="2528640"/>
                  <a:chOff x="1828800" y="2666880"/>
                  <a:chExt cx="2666880" cy="252864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2209680" y="4205160"/>
                    <a:ext cx="0" cy="30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4191120" y="4205160"/>
                    <a:ext cx="0" cy="30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3200400" y="4205160"/>
                    <a:ext cx="0" cy="30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1828800" y="2666880"/>
                    <a:ext cx="2666880" cy="2528640"/>
                    <a:chOff x="1828800" y="2666880"/>
                    <a:chExt cx="2666880" cy="25286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828800" y="4509720"/>
                      <a:ext cx="685800" cy="685800"/>
                    </a:xfrm>
                    <a:prstGeom prst="ellipse">
                      <a:avLst/>
                    </a:prstGeom>
                    <a:solidFill>
                      <a:srgbClr val="99cc99">
                        <a:alpha val="50000"/>
                      </a:srgbClr>
                    </a:solid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3809880" y="4509720"/>
                      <a:ext cx="685800" cy="685800"/>
                    </a:xfrm>
                    <a:prstGeom prst="ellipse">
                      <a:avLst/>
                    </a:prstGeom>
                    <a:solidFill>
                      <a:srgbClr val="99cc99">
                        <a:alpha val="50000"/>
                      </a:srgbClr>
                    </a:solid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2819520" y="4509720"/>
                      <a:ext cx="685800" cy="685800"/>
                    </a:xfrm>
                    <a:prstGeom prst="ellipse">
                      <a:avLst/>
                    </a:prstGeom>
                    <a:solidFill>
                      <a:srgbClr val="99cc99">
                        <a:alpha val="50000"/>
                      </a:srgbClr>
                    </a:solid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2209680" y="3214440"/>
                      <a:ext cx="0" cy="30492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3200400" y="3214440"/>
                      <a:ext cx="0" cy="30492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4191120" y="3214440"/>
                      <a:ext cx="0" cy="30492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2933640" y="3636720"/>
                      <a:ext cx="48240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3938400" y="3622320"/>
                      <a:ext cx="48240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1928880" y="3620880"/>
                      <a:ext cx="48240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1973880" y="4625640"/>
                      <a:ext cx="48240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1874880" y="2666880"/>
                      <a:ext cx="609480" cy="533160"/>
                    </a:xfrm>
                    <a:prstGeom prst="rect">
                      <a:avLst/>
                    </a:prstGeom>
                    <a:solidFill>
                      <a:srgbClr val="99cc99">
                        <a:alpha val="50000"/>
                      </a:srgbClr>
                    </a:solid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2895480" y="2666880"/>
                      <a:ext cx="609840" cy="533160"/>
                    </a:xfrm>
                    <a:prstGeom prst="rect">
                      <a:avLst/>
                    </a:prstGeom>
                    <a:solidFill>
                      <a:srgbClr val="99cc99">
                        <a:alpha val="50000"/>
                      </a:srgbClr>
                    </a:solid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3857760" y="2669760"/>
                      <a:ext cx="609480" cy="533520"/>
                    </a:xfrm>
                    <a:prstGeom prst="rect">
                      <a:avLst/>
                    </a:prstGeom>
                    <a:solidFill>
                      <a:srgbClr val="99cc99">
                        <a:alpha val="50000"/>
                      </a:srgbClr>
                    </a:solid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1974240" y="2690640"/>
                      <a:ext cx="499320" cy="510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258" name=""/>
            <p:cNvSpPr/>
            <p:nvPr/>
          </p:nvSpPr>
          <p:spPr>
            <a:xfrm>
              <a:off x="1555920" y="3048120"/>
              <a:ext cx="306360" cy="1676160"/>
            </a:xfrm>
            <a:custGeom>
              <a:avLst/>
              <a:gdLst/>
              <a:ahLst/>
              <a:rect l="l" t="t" r="r" b="b"/>
              <a:pathLst>
                <a:path w="296" h="1152">
                  <a:moveTo>
                    <a:pt x="296" y="0"/>
                  </a:moveTo>
                  <a:cubicBezTo>
                    <a:pt x="156" y="168"/>
                    <a:pt x="16" y="336"/>
                    <a:pt x="8" y="528"/>
                  </a:cubicBezTo>
                  <a:cubicBezTo>
                    <a:pt x="0" y="720"/>
                    <a:pt x="208" y="1040"/>
                    <a:pt x="248" y="1152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92360" y="3033720"/>
              <a:ext cx="306360" cy="1676520"/>
            </a:xfrm>
            <a:custGeom>
              <a:avLst/>
              <a:gdLst/>
              <a:ahLst/>
              <a:rect l="l" t="t" r="r" b="b"/>
              <a:pathLst>
                <a:path w="296" h="1152">
                  <a:moveTo>
                    <a:pt x="296" y="0"/>
                  </a:moveTo>
                  <a:cubicBezTo>
                    <a:pt x="156" y="168"/>
                    <a:pt x="16" y="336"/>
                    <a:pt x="8" y="528"/>
                  </a:cubicBezTo>
                  <a:cubicBezTo>
                    <a:pt x="0" y="720"/>
                    <a:pt x="208" y="1040"/>
                    <a:pt x="248" y="1152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22600" y="3048120"/>
              <a:ext cx="306360" cy="1676160"/>
            </a:xfrm>
            <a:custGeom>
              <a:avLst/>
              <a:gdLst/>
              <a:ahLst/>
              <a:rect l="l" t="t" r="r" b="b"/>
              <a:pathLst>
                <a:path w="296" h="1152">
                  <a:moveTo>
                    <a:pt x="296" y="0"/>
                  </a:moveTo>
                  <a:cubicBezTo>
                    <a:pt x="156" y="168"/>
                    <a:pt x="16" y="336"/>
                    <a:pt x="8" y="528"/>
                  </a:cubicBezTo>
                  <a:cubicBezTo>
                    <a:pt x="0" y="720"/>
                    <a:pt x="208" y="1040"/>
                    <a:pt x="248" y="1152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020600" y="5425920"/>
                <a:ext cx="7740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u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020600" y="5927760"/>
                <a:ext cx="7229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u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upled Hidden Markov Mode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447920" y="2819520"/>
            <a:ext cx="2819160" cy="3400200"/>
            <a:chOff x="1447920" y="2819520"/>
            <a:chExt cx="2819160" cy="3400200"/>
          </a:xfrm>
        </p:grpSpPr>
        <p:grpSp>
          <p:nvGrpSpPr>
            <p:cNvPr id="265" name=""/>
            <p:cNvGrpSpPr/>
            <p:nvPr/>
          </p:nvGrpSpPr>
          <p:grpSpPr>
            <a:xfrm>
              <a:off x="1447920" y="2819520"/>
              <a:ext cx="685800" cy="3400200"/>
              <a:chOff x="1447920" y="2819520"/>
              <a:chExt cx="685800" cy="3400200"/>
            </a:xfrm>
          </p:grpSpPr>
          <p:sp>
            <p:nvSpPr>
              <p:cNvPr id="266" name=""/>
              <p:cNvSpPr/>
              <p:nvPr/>
            </p:nvSpPr>
            <p:spPr>
              <a:xfrm>
                <a:off x="1447920" y="5533920"/>
                <a:ext cx="685800" cy="685800"/>
              </a:xfrm>
              <a:prstGeom prst="ellipse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447920" y="2819520"/>
                <a:ext cx="685800" cy="685800"/>
              </a:xfrm>
              <a:prstGeom prst="ellipse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494000" y="4694400"/>
                <a:ext cx="609840" cy="53316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494000" y="3780000"/>
                <a:ext cx="609840" cy="53316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1798920" y="3474720"/>
                <a:ext cx="0" cy="304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798920" y="5227560"/>
                <a:ext cx="0" cy="304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798920" y="4313160"/>
                <a:ext cx="0" cy="3812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514600" y="2819520"/>
              <a:ext cx="685800" cy="3400200"/>
              <a:chOff x="2514600" y="2819520"/>
              <a:chExt cx="685800" cy="3400200"/>
            </a:xfrm>
          </p:grpSpPr>
          <p:sp>
            <p:nvSpPr>
              <p:cNvPr id="274" name=""/>
              <p:cNvSpPr/>
              <p:nvPr/>
            </p:nvSpPr>
            <p:spPr>
              <a:xfrm>
                <a:off x="2514600" y="5533920"/>
                <a:ext cx="685800" cy="685800"/>
              </a:xfrm>
              <a:prstGeom prst="ellipse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14600" y="2819520"/>
                <a:ext cx="685800" cy="685800"/>
              </a:xfrm>
              <a:prstGeom prst="ellipse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60680" y="4694400"/>
                <a:ext cx="609840" cy="53316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0680" y="3780000"/>
                <a:ext cx="609840" cy="53316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2865600" y="3474720"/>
                <a:ext cx="0" cy="304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865600" y="5227560"/>
                <a:ext cx="0" cy="304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5600" y="4313160"/>
                <a:ext cx="0" cy="3812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3581280" y="2819520"/>
              <a:ext cx="685800" cy="3400200"/>
              <a:chOff x="3581280" y="2819520"/>
              <a:chExt cx="685800" cy="3400200"/>
            </a:xfrm>
          </p:grpSpPr>
          <p:sp>
            <p:nvSpPr>
              <p:cNvPr id="282" name=""/>
              <p:cNvSpPr/>
              <p:nvPr/>
            </p:nvSpPr>
            <p:spPr>
              <a:xfrm>
                <a:off x="3581280" y="5533920"/>
                <a:ext cx="685800" cy="685800"/>
              </a:xfrm>
              <a:prstGeom prst="ellipse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581280" y="2819520"/>
                <a:ext cx="685800" cy="685800"/>
              </a:xfrm>
              <a:prstGeom prst="ellipse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27360" y="4694400"/>
                <a:ext cx="609840" cy="53316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627360" y="3780000"/>
                <a:ext cx="609840" cy="53316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3932280" y="3474720"/>
                <a:ext cx="0" cy="304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932280" y="5227560"/>
                <a:ext cx="0" cy="304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932280" y="4313160"/>
                <a:ext cx="0" cy="3812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2133720" y="4038480"/>
              <a:ext cx="380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00400" y="4038480"/>
              <a:ext cx="380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33720" y="4952880"/>
              <a:ext cx="380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00400" y="4952880"/>
              <a:ext cx="380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33720" y="4343400"/>
              <a:ext cx="457200" cy="380880"/>
            </a:xfrm>
            <a:prstGeom prst="line">
              <a:avLst/>
            </a:prstGeom>
            <a:ln cap="rnd" w="3168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00400" y="4343400"/>
              <a:ext cx="457200" cy="380880"/>
            </a:xfrm>
            <a:prstGeom prst="line">
              <a:avLst/>
            </a:prstGeom>
            <a:ln cap="rnd" w="3168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133720" y="4343400"/>
              <a:ext cx="457200" cy="380880"/>
            </a:xfrm>
            <a:prstGeom prst="line">
              <a:avLst/>
            </a:prstGeom>
            <a:ln cap="rnd" w="3168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184560" y="4281480"/>
              <a:ext cx="457200" cy="380880"/>
            </a:xfrm>
            <a:prstGeom prst="line">
              <a:avLst/>
            </a:prstGeom>
            <a:ln cap="rnd" w="3168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648320" y="29718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446480" y="236232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bservation variable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492560" y="630864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bservation variable 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28840" y="6045120"/>
            <a:ext cx="320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Oliver, Rosario &amp; Pentland, 1999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upled Hidden Markov Mode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47920" y="2819520"/>
            <a:ext cx="685800" cy="685800"/>
          </a:xfrm>
          <a:prstGeom prst="ellipse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4648320"/>
            <a:ext cx="609840" cy="533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94000" y="3780000"/>
            <a:ext cx="609480" cy="533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798560" y="347472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5486400"/>
            <a:ext cx="685800" cy="685800"/>
          </a:xfrm>
          <a:prstGeom prst="ellipse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2819520"/>
            <a:ext cx="685800" cy="685800"/>
          </a:xfrm>
          <a:prstGeom prst="ellipse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60680" y="3780000"/>
            <a:ext cx="609480" cy="533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865600" y="347472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2819520"/>
            <a:ext cx="685800" cy="685800"/>
          </a:xfrm>
          <a:prstGeom prst="ellipse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4648320"/>
            <a:ext cx="609840" cy="533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27360" y="3780000"/>
            <a:ext cx="609840" cy="533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3932280" y="347472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33720" y="4038480"/>
            <a:ext cx="3808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00400" y="4038480"/>
            <a:ext cx="3808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038480" y="5486400"/>
            <a:ext cx="685800" cy="685800"/>
          </a:xfrm>
          <a:prstGeom prst="ellipse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0" y="2819520"/>
            <a:ext cx="685800" cy="685800"/>
          </a:xfrm>
          <a:prstGeom prst="ellipse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18080" y="3780000"/>
            <a:ext cx="609480" cy="533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923000" y="347472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4038480"/>
            <a:ext cx="3812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90920" y="4952880"/>
            <a:ext cx="14475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0" y="518148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43400" y="518148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0" y="4329000"/>
            <a:ext cx="45720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00600" y="4327560"/>
            <a:ext cx="45720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376360" y="4327200"/>
            <a:ext cx="53352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405320" y="4328640"/>
            <a:ext cx="53352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79640" y="243828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bservation variable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903680" y="624852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bservation variable 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257800" y="3443400"/>
            <a:ext cx="3809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r a coupled model, the timescales associated with each underlying hidden model do not need to be the sa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ful for coupling multi-modal signals such as audio and vide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ference and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066680" y="2514600"/>
            <a:ext cx="762012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lculating a probability over a set of nodes given the values of other no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timating the value of hidden nodes given the values of the observed no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uting statistical and information theoretic quantities like fit between model and observed data (likelihood), mutual information 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ct and approximate meth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cture 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family of graphical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will see some example model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xture mod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ctor analy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dden Markov Mod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 Bayesian Networ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upled Hidden Markov Mod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ference and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ference and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53920" y="2255760"/>
            <a:ext cx="807732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 parameters and/or structure from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ximise fit between model and observed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d model structure - discover best parameter s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 structure using information criteria (“scoring”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371600" y="4648320"/>
          <a:ext cx="7086600" cy="2014560"/>
        </p:xfrm>
        <a:graphic>
          <a:graphicData uri="http://schemas.openxmlformats.org/drawingml/2006/table">
            <a:tbl>
              <a:tblPr/>
              <a:tblGrid>
                <a:gridCol w="2361960"/>
                <a:gridCol w="2362320"/>
                <a:gridCol w="236232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ructur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bservabilit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l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rtia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now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losed for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ectation Maximisation (EM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nknow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cal search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ructural E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raphical models can be seen a family of models that allow different vision problems to be solv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r example, a mixture model is a directed Bayes net which could be used to classify pix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tate space models, for example the HMM, show how variable sets determine model parameters over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tim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14400" y="236232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ayes Rule and Bayesian Net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 lot of excellent reference material on graphical models can be found a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http://cosco.hiit.fi/Teaching/GraphicalModels/Fall2003/material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y are graphical models relevant to Cognitive CV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9640" y="2417760"/>
            <a:ext cx="80294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cisely because they allows us to see different methods as instances of a broader probabilistic frame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se methods are the basis for our model of perception guided by expec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can put our model of expectation on a solid theoretical found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can develop well-founded methods of learning rather than just being stuck with hand-coded mod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minder from previous lectur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09280" y="24174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probabilistic graphical model is a type of probabilistic network that has roots in AI, statistics and neural net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s a clean mathematical formalism that makes it possible to understand the relationships between a wide variety of network based approaches to compu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ows to see different methods as instances of a broader probabilistic frame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taxonomy of graphical mode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GMtree" descr=""/>
          <p:cNvPicPr/>
          <p:nvPr/>
        </p:nvPicPr>
        <p:blipFill>
          <a:blip r:embed="rId1"/>
          <a:stretch/>
        </p:blipFill>
        <p:spPr>
          <a:xfrm>
            <a:off x="1020600" y="2346480"/>
            <a:ext cx="6934320" cy="4473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91800" y="2438280"/>
            <a:ext cx="16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© Julie Vog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tation - remin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81280" y="2722320"/>
            <a:ext cx="490536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quares denote discrete nod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ircles denote continuous valued nod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lear denotes hidden nod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haded denotes observed nod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828800" y="2666880"/>
            <a:ext cx="990720" cy="3505320"/>
            <a:chOff x="1828800" y="2666880"/>
            <a:chExt cx="990720" cy="3505320"/>
          </a:xfrm>
        </p:grpSpPr>
        <p:sp>
          <p:nvSpPr>
            <p:cNvPr id="114" name=""/>
            <p:cNvSpPr/>
            <p:nvPr/>
          </p:nvSpPr>
          <p:spPr>
            <a:xfrm>
              <a:off x="1828800" y="3886200"/>
              <a:ext cx="990720" cy="9903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28800" y="2666880"/>
              <a:ext cx="990720" cy="914400"/>
            </a:xfrm>
            <a:prstGeom prst="rect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8800" y="5181480"/>
              <a:ext cx="990720" cy="9907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xture model as a graphical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160" y="2722320"/>
            <a:ext cx="589572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Data point drawn from a fixed set of class in Y, but the class label for each data point is ‘missing’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X = class label x (hidden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Y = observed data poin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P(X=x,Y=y) = P(X=x).P(Y=y|X=x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Learning problem is to find P(Y|X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Inference problem is P(X=x|Y=y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Let’s try to put this in a vision context …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371600" y="3063960"/>
            <a:ext cx="1071720" cy="2422440"/>
            <a:chOff x="1371600" y="3063960"/>
            <a:chExt cx="1071720" cy="2422440"/>
          </a:xfrm>
        </p:grpSpPr>
        <p:sp>
          <p:nvSpPr>
            <p:cNvPr id="120" name=""/>
            <p:cNvSpPr/>
            <p:nvPr/>
          </p:nvSpPr>
          <p:spPr>
            <a:xfrm>
              <a:off x="1371600" y="4495680"/>
              <a:ext cx="990720" cy="99072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Y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4038480"/>
              <a:ext cx="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76280" y="3063960"/>
              <a:ext cx="1067040" cy="99036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41240" y="3263760"/>
              <a:ext cx="4687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xture model as a graphical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shrub0" descr=""/>
          <p:cNvPicPr/>
          <p:nvPr/>
        </p:nvPicPr>
        <p:blipFill>
          <a:blip r:embed="rId1"/>
          <a:stretch/>
        </p:blipFill>
        <p:spPr>
          <a:xfrm>
            <a:off x="868320" y="2697120"/>
            <a:ext cx="3505320" cy="32860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19360" y="2514240"/>
            <a:ext cx="472428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t’s say our class label X has 4 possible values (wall,bush,sign, roa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ach pixel in the image has a grey level 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ut we don’t know which class each pixel belongs 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(X=x,Y=y) =  P(X=x).P(Y=y|X=x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arning problem is to find P(Y|X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ference problem is P(X=x|Y=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ven’t said how to learn P(Y|X) y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xture model as a graphical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shrub0" descr=""/>
          <p:cNvPicPr/>
          <p:nvPr/>
        </p:nvPicPr>
        <p:blipFill>
          <a:blip r:embed="rId1"/>
          <a:stretch/>
        </p:blipFill>
        <p:spPr>
          <a:xfrm>
            <a:off x="868320" y="2697120"/>
            <a:ext cx="3505320" cy="3286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19360" y="259092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ut we might have a spec for P(Y|X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417920" y="3505320"/>
            <a:ext cx="4281480" cy="2898000"/>
            <a:chOff x="4417920" y="3505320"/>
            <a:chExt cx="4281480" cy="2898000"/>
          </a:xfrm>
        </p:grpSpPr>
        <p:sp>
          <p:nvSpPr>
            <p:cNvPr id="131" name=""/>
            <p:cNvSpPr/>
            <p:nvPr/>
          </p:nvSpPr>
          <p:spPr>
            <a:xfrm>
              <a:off x="4876920" y="3505320"/>
              <a:ext cx="0" cy="2438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76920" y="5943600"/>
              <a:ext cx="35812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05720" y="4114800"/>
              <a:ext cx="1993680" cy="1625760"/>
            </a:xfrm>
            <a:custGeom>
              <a:avLst/>
              <a:gdLst/>
              <a:ahLst/>
              <a:rect l="l" t="t" r="r" b="b"/>
              <a:pathLst>
                <a:path w="1256" h="1024">
                  <a:moveTo>
                    <a:pt x="0" y="1024"/>
                  </a:moveTo>
                  <a:cubicBezTo>
                    <a:pt x="104" y="1012"/>
                    <a:pt x="208" y="1000"/>
                    <a:pt x="288" y="928"/>
                  </a:cubicBezTo>
                  <a:cubicBezTo>
                    <a:pt x="368" y="856"/>
                    <a:pt x="432" y="720"/>
                    <a:pt x="480" y="592"/>
                  </a:cubicBezTo>
                  <a:cubicBezTo>
                    <a:pt x="528" y="464"/>
                    <a:pt x="544" y="256"/>
                    <a:pt x="576" y="160"/>
                  </a:cubicBezTo>
                  <a:cubicBezTo>
                    <a:pt x="608" y="64"/>
                    <a:pt x="632" y="32"/>
                    <a:pt x="672" y="16"/>
                  </a:cubicBezTo>
                  <a:cubicBezTo>
                    <a:pt x="712" y="0"/>
                    <a:pt x="784" y="16"/>
                    <a:pt x="816" y="64"/>
                  </a:cubicBezTo>
                  <a:cubicBezTo>
                    <a:pt x="848" y="112"/>
                    <a:pt x="848" y="200"/>
                    <a:pt x="864" y="304"/>
                  </a:cubicBezTo>
                  <a:cubicBezTo>
                    <a:pt x="880" y="408"/>
                    <a:pt x="888" y="584"/>
                    <a:pt x="912" y="688"/>
                  </a:cubicBezTo>
                  <a:cubicBezTo>
                    <a:pt x="936" y="792"/>
                    <a:pt x="952" y="872"/>
                    <a:pt x="1008" y="928"/>
                  </a:cubicBezTo>
                  <a:cubicBezTo>
                    <a:pt x="1064" y="984"/>
                    <a:pt x="1256" y="1000"/>
                    <a:pt x="1248" y="102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19920" y="4343400"/>
              <a:ext cx="1993680" cy="1397160"/>
            </a:xfrm>
            <a:custGeom>
              <a:avLst/>
              <a:gdLst/>
              <a:ahLst/>
              <a:rect l="l" t="t" r="r" b="b"/>
              <a:pathLst>
                <a:path w="1256" h="1024">
                  <a:moveTo>
                    <a:pt x="0" y="1024"/>
                  </a:moveTo>
                  <a:cubicBezTo>
                    <a:pt x="104" y="1012"/>
                    <a:pt x="208" y="1000"/>
                    <a:pt x="288" y="928"/>
                  </a:cubicBezTo>
                  <a:cubicBezTo>
                    <a:pt x="368" y="856"/>
                    <a:pt x="432" y="720"/>
                    <a:pt x="480" y="592"/>
                  </a:cubicBezTo>
                  <a:cubicBezTo>
                    <a:pt x="528" y="464"/>
                    <a:pt x="544" y="256"/>
                    <a:pt x="576" y="160"/>
                  </a:cubicBezTo>
                  <a:cubicBezTo>
                    <a:pt x="608" y="64"/>
                    <a:pt x="632" y="32"/>
                    <a:pt x="672" y="16"/>
                  </a:cubicBezTo>
                  <a:cubicBezTo>
                    <a:pt x="712" y="0"/>
                    <a:pt x="784" y="16"/>
                    <a:pt x="816" y="64"/>
                  </a:cubicBezTo>
                  <a:cubicBezTo>
                    <a:pt x="848" y="112"/>
                    <a:pt x="848" y="200"/>
                    <a:pt x="864" y="304"/>
                  </a:cubicBezTo>
                  <a:cubicBezTo>
                    <a:pt x="880" y="408"/>
                    <a:pt x="888" y="584"/>
                    <a:pt x="912" y="688"/>
                  </a:cubicBezTo>
                  <a:cubicBezTo>
                    <a:pt x="936" y="792"/>
                    <a:pt x="952" y="872"/>
                    <a:pt x="1008" y="928"/>
                  </a:cubicBezTo>
                  <a:cubicBezTo>
                    <a:pt x="1064" y="984"/>
                    <a:pt x="1256" y="1000"/>
                    <a:pt x="1248" y="1024"/>
                  </a:cubicBezTo>
                </a:path>
              </a:pathLst>
            </a:custGeom>
            <a:noFill/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4120" y="3962520"/>
              <a:ext cx="1993680" cy="1778040"/>
            </a:xfrm>
            <a:custGeom>
              <a:avLst/>
              <a:gdLst/>
              <a:ahLst/>
              <a:rect l="l" t="t" r="r" b="b"/>
              <a:pathLst>
                <a:path w="1256" h="1024">
                  <a:moveTo>
                    <a:pt x="0" y="1024"/>
                  </a:moveTo>
                  <a:cubicBezTo>
                    <a:pt x="104" y="1012"/>
                    <a:pt x="208" y="1000"/>
                    <a:pt x="288" y="928"/>
                  </a:cubicBezTo>
                  <a:cubicBezTo>
                    <a:pt x="368" y="856"/>
                    <a:pt x="432" y="720"/>
                    <a:pt x="480" y="592"/>
                  </a:cubicBezTo>
                  <a:cubicBezTo>
                    <a:pt x="528" y="464"/>
                    <a:pt x="544" y="256"/>
                    <a:pt x="576" y="160"/>
                  </a:cubicBezTo>
                  <a:cubicBezTo>
                    <a:pt x="608" y="64"/>
                    <a:pt x="632" y="32"/>
                    <a:pt x="672" y="16"/>
                  </a:cubicBezTo>
                  <a:cubicBezTo>
                    <a:pt x="712" y="0"/>
                    <a:pt x="784" y="16"/>
                    <a:pt x="816" y="64"/>
                  </a:cubicBezTo>
                  <a:cubicBezTo>
                    <a:pt x="848" y="112"/>
                    <a:pt x="848" y="200"/>
                    <a:pt x="864" y="304"/>
                  </a:cubicBezTo>
                  <a:cubicBezTo>
                    <a:pt x="880" y="408"/>
                    <a:pt x="888" y="584"/>
                    <a:pt x="912" y="688"/>
                  </a:cubicBezTo>
                  <a:cubicBezTo>
                    <a:pt x="936" y="792"/>
                    <a:pt x="952" y="872"/>
                    <a:pt x="1008" y="928"/>
                  </a:cubicBezTo>
                  <a:cubicBezTo>
                    <a:pt x="1064" y="984"/>
                    <a:pt x="1256" y="1000"/>
                    <a:pt x="1248" y="1024"/>
                  </a:cubicBezTo>
                </a:path>
              </a:pathLst>
            </a:cu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52880" y="4114800"/>
              <a:ext cx="1155960" cy="1676520"/>
            </a:xfrm>
            <a:custGeom>
              <a:avLst/>
              <a:gdLst/>
              <a:ahLst/>
              <a:rect l="l" t="t" r="r" b="b"/>
              <a:pathLst>
                <a:path w="1256" h="1024">
                  <a:moveTo>
                    <a:pt x="0" y="1024"/>
                  </a:moveTo>
                  <a:cubicBezTo>
                    <a:pt x="104" y="1012"/>
                    <a:pt x="208" y="1000"/>
                    <a:pt x="288" y="928"/>
                  </a:cubicBezTo>
                  <a:cubicBezTo>
                    <a:pt x="368" y="856"/>
                    <a:pt x="432" y="720"/>
                    <a:pt x="480" y="592"/>
                  </a:cubicBezTo>
                  <a:cubicBezTo>
                    <a:pt x="528" y="464"/>
                    <a:pt x="544" y="256"/>
                    <a:pt x="576" y="160"/>
                  </a:cubicBezTo>
                  <a:cubicBezTo>
                    <a:pt x="608" y="64"/>
                    <a:pt x="632" y="32"/>
                    <a:pt x="672" y="16"/>
                  </a:cubicBezTo>
                  <a:cubicBezTo>
                    <a:pt x="712" y="0"/>
                    <a:pt x="784" y="16"/>
                    <a:pt x="816" y="64"/>
                  </a:cubicBezTo>
                  <a:cubicBezTo>
                    <a:pt x="848" y="112"/>
                    <a:pt x="848" y="200"/>
                    <a:pt x="864" y="304"/>
                  </a:cubicBezTo>
                  <a:cubicBezTo>
                    <a:pt x="880" y="408"/>
                    <a:pt x="888" y="584"/>
                    <a:pt x="912" y="688"/>
                  </a:cubicBezTo>
                  <a:cubicBezTo>
                    <a:pt x="936" y="792"/>
                    <a:pt x="952" y="872"/>
                    <a:pt x="1008" y="928"/>
                  </a:cubicBezTo>
                  <a:cubicBezTo>
                    <a:pt x="1064" y="984"/>
                    <a:pt x="1256" y="1000"/>
                    <a:pt x="1248" y="1024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76920" y="5029200"/>
              <a:ext cx="622080" cy="838080"/>
            </a:xfrm>
            <a:custGeom>
              <a:avLst/>
              <a:gdLst/>
              <a:ahLst/>
              <a:rect l="l" t="t" r="r" b="b"/>
              <a:pathLst>
                <a:path w="1256" h="1024">
                  <a:moveTo>
                    <a:pt x="0" y="1024"/>
                  </a:moveTo>
                  <a:cubicBezTo>
                    <a:pt x="104" y="1012"/>
                    <a:pt x="208" y="1000"/>
                    <a:pt x="288" y="928"/>
                  </a:cubicBezTo>
                  <a:cubicBezTo>
                    <a:pt x="368" y="856"/>
                    <a:pt x="432" y="720"/>
                    <a:pt x="480" y="592"/>
                  </a:cubicBezTo>
                  <a:cubicBezTo>
                    <a:pt x="528" y="464"/>
                    <a:pt x="544" y="256"/>
                    <a:pt x="576" y="160"/>
                  </a:cubicBezTo>
                  <a:cubicBezTo>
                    <a:pt x="608" y="64"/>
                    <a:pt x="632" y="32"/>
                    <a:pt x="672" y="16"/>
                  </a:cubicBezTo>
                  <a:cubicBezTo>
                    <a:pt x="712" y="0"/>
                    <a:pt x="784" y="16"/>
                    <a:pt x="816" y="64"/>
                  </a:cubicBezTo>
                  <a:cubicBezTo>
                    <a:pt x="848" y="112"/>
                    <a:pt x="848" y="200"/>
                    <a:pt x="864" y="304"/>
                  </a:cubicBezTo>
                  <a:cubicBezTo>
                    <a:pt x="880" y="408"/>
                    <a:pt x="888" y="584"/>
                    <a:pt x="912" y="688"/>
                  </a:cubicBezTo>
                  <a:cubicBezTo>
                    <a:pt x="936" y="792"/>
                    <a:pt x="952" y="872"/>
                    <a:pt x="1008" y="928"/>
                  </a:cubicBezTo>
                  <a:cubicBezTo>
                    <a:pt x="1064" y="984"/>
                    <a:pt x="1256" y="1000"/>
                    <a:pt x="1248" y="102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54880" y="5943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86560" y="5908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86600" y="59436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255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6200000">
              <a:off x="4196160" y="4122720"/>
              <a:ext cx="90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p(y|x)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 rot="16200000">
            <a:off x="7439400" y="357984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x=sig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4808880" y="453600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x=sig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5156280" y="353664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x=bush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6043320" y="340704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x=roa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6726600" y="383400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ff"/>
                </a:solidFill>
                <a:latin typeface="Arial"/>
              </a:rPr>
              <a:t>x=wal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5:42:46Z</dcterms:created>
  <dc:creator>Sage</dc:creator>
  <dc:description/>
  <dc:language>en-US</dc:language>
  <cp:lastModifiedBy>Sage</cp:lastModifiedBy>
  <dcterms:modified xsi:type="dcterms:W3CDTF">2005-03-24T12:32:29Z</dcterms:modified>
  <cp:revision>74</cp:revision>
  <dc:subject/>
  <dc:title>Programming Techniques 804G5</dc:title>
</cp:coreProperties>
</file>